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1811-4B8F-41AA-B372-FE66ECC8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F475-1F1D-4246-9B2C-DC33E3524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B324-E492-435C-BA0B-0896A08F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543-4459-4251-8E5E-3944B0169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FA22-7CB1-43B9-A2DB-52DB863A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86E7-A30E-4940-B579-A2083F60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F46A-06B2-40EE-AA6E-81AB9FAA8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1EC8-2A11-45EA-B3A1-2F96B901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CA7B-DD32-49B5-A72D-15800D3D7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9934-7F8B-4692-8643-79B3DC21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6A17-DEC3-41DB-A61C-D1BD94E7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FDD6-5CD5-4813-AA24-CFC9A3CE1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325E-FC34-4249-9576-1EE8BE53FE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1752480"/>
            <a:ext cx="7391520" cy="4648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33720" y="480060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572000" y="32000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56272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52480" y="5486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5410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v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5410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o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5424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040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3900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hy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2529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1752480"/>
            <a:ext cx="7391520" cy="4648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E/7E Model of Instr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480060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72000" y="32000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56272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5486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g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5410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54244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8862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38480" y="25290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1752480"/>
            <a:ext cx="7391520" cy="4648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480060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32000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5486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52480" y="5410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5410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’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095880" y="5424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en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24280" y="3733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sphat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2529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14400" y="1752480"/>
            <a:ext cx="7391520" cy="4648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2900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33720" y="480060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572000" y="32000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2900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6272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5486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5410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5410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5424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040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373392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2529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1752480"/>
            <a:ext cx="7391520" cy="4648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480060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572000" y="32000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5486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5410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di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5410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5880" y="5424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di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3886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ry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7339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25290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-hi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14400" y="1752480"/>
            <a:ext cx="7391520" cy="46483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qui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480060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572000" y="320004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48006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5486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5424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37339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Cen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8862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9880" y="2438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3T02:44:16Z</dcterms:created>
  <dc:creator>HISD</dc:creator>
  <dc:description/>
  <dc:language>en-US</dc:language>
  <cp:lastModifiedBy>HISD</cp:lastModifiedBy>
  <dcterms:modified xsi:type="dcterms:W3CDTF">2009-01-27T02:24:35Z</dcterms:modified>
  <cp:revision>5</cp:revision>
  <dc:subject/>
  <dc:title>DNA</dc:title>
</cp:coreProperties>
</file>